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962-7AC3-43D8-B3CA-FBC8743D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E58-A2C8-4310-BA7A-870BB2A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F33-C5CA-434C-AB93-406486D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FD0-9827-4D22-BFCB-2763C073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2D3F-65EB-425A-B6EA-609426E9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402-8FAD-4FF1-BC1B-9D7D401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BBB3-E613-418B-B97F-DEF03C33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9A89-3F57-4072-B92F-740BA466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144-2D7A-4386-B12D-B6078B3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AAE9-527B-4323-81E8-8205200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B39-B577-4515-8822-856BEE3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913-76F1-4A2F-A82D-1EA2D34B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D434-6FB6-47A0-8A2D-10763EB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258-66E7-4F5B-AECA-208E2F7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CC8-B8E6-4A2C-A171-4D10731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6C0-C340-4692-B9ED-6C39936D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99AA-9158-4D1D-B51C-92DFE914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2FD-4065-4D14-B1E8-328041CF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08D-7DEC-42F4-B9E0-8748709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684-DF6B-4BFA-A795-F45DF13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88C-96EE-4F35-B54A-D781525E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EF9-822D-45BD-B359-977CF09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472-8F96-455B-9E42-49653ADF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67C-8C8D-4000-9CEA-9F9017E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630-9A89-4D43-91BD-BF7A165E6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EAD-1012-4FD9-AED0-9ECF88A6A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8"/>
          <a:stretch/>
        </p:blipFill>
        <p:spPr>
          <a:xfrm>
            <a:off x="838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362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0"/>
          <a:stretch/>
        </p:blipFill>
        <p:spPr>
          <a:xfrm>
            <a:off x="388620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1"/>
          <a:stretch/>
        </p:blipFill>
        <p:spPr>
          <a:xfrm>
            <a:off x="5410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2"/>
          <a:stretch/>
        </p:blipFill>
        <p:spPr>
          <a:xfrm>
            <a:off x="6934320" y="914400"/>
            <a:ext cx="152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3240" y="316872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89280" y="3168720"/>
            <a:ext cx="557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s an idea about the life of the wealthy as opposed to the life of the poor: a sat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3960" y="316872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3240" y="316872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arkation from Cythe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28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oine Watt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17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5040" y="316872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tl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8080" y="31687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in the fete galante style: shows the outdoor activity of the wealt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very soft and feathery brush stro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3240" y="3168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 from the mark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3240" y="316872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an Baptiste Simeon Chard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39, response to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ocial con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31687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d by Rousseau and enlightenment thinkers to show natural human ex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ke’s Progress: Debauch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1828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misses the frivolities of the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aises the simple domestic duties of ordinary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s tranquility because of hushed light and mellow col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3240" y="316872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e Antoinette Portra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3048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 and who commissioned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3240" y="3168720"/>
            <a:ext cx="45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sabeth Vigee-Lebr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e Antoinet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76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1752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st female art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ular court portrait pa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ypical colors and softness of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43000" y="3168720"/>
            <a:ext cx="66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 What is it part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066680" y="31687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sons, part of a series of imaginary dunge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3240" y="316872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ovanni Battista Pirane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sponse to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800" y="3168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28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liam Hoga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16002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inspire awe and terr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sense of perspective or visual ex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trapped sense of the average man in response to the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the feel of Gothic to evoke Romantic Sublime 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34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880" y="316872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is a part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31687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eries of paintings about the life of R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5-17T16:25:27Z</dcterms:modified>
  <cp:revision>19</cp:revision>
  <dc:subject/>
  <dc:title>Jeopardy</dc:title>
</cp:coreProperties>
</file>